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ought we should do one as an example just to make sure that everybody knew what was going on (I hate to model but I think it’s needed...what do you all think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CFD8-6E55-4090-84EE-765B0AE4C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9228-5AE0-4187-A197-E86BC2DF2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33DE-3560-4D83-9BE4-B3D9F7DA2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6B07-B331-4E4F-A3EC-10A281B512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7C03-D9F9-4B70-AE47-C5B468A8E7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B723-B115-4C16-B4DA-AE1238D0F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7EBF-2C1E-4459-936A-61FFC5DDC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3A89-3E91-4CAC-AD05-E89E5206E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CA97-9644-4C0F-A5B1-1084527A5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7E3F-2FB6-4C0B-91E8-D457055CF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0348-D684-438A-B4E3-BE225C708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D7DB-7863-4BB4-9029-441670D54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816F-36D0-4BB3-8168-59B7332242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4931-3EC1-40CC-BFA3-274592043A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 in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what you were saying to your partner while walking around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you Telling?  Showing?  Guiding?  Questioning?  Wa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 have enough think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else do we respond to students in the mo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1A17-5A45-4804-9AFB-B8E89DC55F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E:\Beach Images\Beach &amp; Water (K - P)\Life Preserver 04.wmf"/>
          <p:cNvPicPr/>
          <p:nvPr/>
        </p:nvPicPr>
        <p:blipFill>
          <a:blip r:embed="rId2"/>
          <a:stretch/>
        </p:blipFill>
        <p:spPr>
          <a:xfrm>
            <a:off x="6961320" y="2971800"/>
            <a:ext cx="218268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Secret Ru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you will be getting a new secret pattern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f you will create a tile representation (one colour only this time) of the pattern rule (but none of you can have the same geometric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1BD7-EF2C-425B-8649-985248E514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find the other table who had the same pattern rule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anybody at the other table have the same geometric design you h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choose a different table and find the other table that had the same rule.  Did their designs look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D098-4FE0-4578-A777-C3AAAA680A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having only 1 colour make it more difficult to find your table match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might have made it more difficult to find your matching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02CC-AA31-4EAD-96FE-5E3F5D6A43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the purpose of this activity would have b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957F-23CA-4864-B51D-3A76A24FA0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uess my Rule!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only position #2, determine my pattern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ome individual think time, share as a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BDA1-3696-4ABF-B853-D7BFA6A74A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809880" y="1523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4114800" y="1523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809880" y="19810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4114800" y="19810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4419720" y="19810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3505320" y="19810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809880" y="24382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114800" y="24382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86200" y="2971800"/>
            <a:ext cx="434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uess my Rul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s came out of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is problem further our goal to discuss the big idea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70C2-2CB4-416B-BA03-B18094FBC7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cret Pattern Rule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if time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your own secret pattern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 think you’re ready to try and trick each other a bi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r table try to determine the rule you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54D5-4FF3-43BC-84C1-79DB5BC861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a short video of a Grade 7 class participating in a similar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of multiplicative thinking and 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teachers are responding to the students in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7F38-1E57-4AAC-8219-C2F585B5C2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Discuss at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evidence of multiplicative thinking and generaliz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eachers responding to the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your first though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 students engaged in the ma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else you not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43BD-84F2-4D06-9C7A-70AD4846EC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0AFF-1C7C-498A-80C8-D098610B69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:\Beach Images\Beach &amp; Water (C - G)\Diving In 12.wmf"/>
          <p:cNvPicPr/>
          <p:nvPr/>
        </p:nvPicPr>
        <p:blipFill>
          <a:blip r:embed="rId1"/>
          <a:stretch/>
        </p:blipFill>
        <p:spPr>
          <a:xfrm>
            <a:off x="3581280" y="1676520"/>
            <a:ext cx="2551320" cy="320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E:\Beach Images\Landscapes (A - Ci)\Beach Scene 29.wmf"/>
          <p:cNvPicPr/>
          <p:nvPr/>
        </p:nvPicPr>
        <p:blipFill>
          <a:blip r:embed="rId2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0731-27AE-4A2F-8496-E8F6684FCB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create geometric patterns and use them to support our own understanding of multiplicative thinking, generalizations and multiple re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begin discussing the idea of responding to students in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A64C-E572-4CE4-9224-CE95A85ED9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A0C7-9929-4D2B-99E3-273637E51E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E:\Beach Images\Landscapes (A - Ci)\Beach Scene 29.wmf"/>
          <p:cNvPicPr/>
          <p:nvPr/>
        </p:nvPicPr>
        <p:blipFill>
          <a:blip r:embed="rId2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’ve been engaged in the math throughout this breakout we would like you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the exit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on how you’re feeling about P&amp;A 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3596-7D84-4700-9923-41D4F7EA86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ntrance Card</a:t>
            </a: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omplete the following entrance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interested to hear how you’re feeling about Patterning &amp; Algebra after the first 2 Plenary S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E3E0-F27E-452B-B463-93D239235C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cret Rule Ga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you will be g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cret pattern r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tiles = (position number) x 2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Tiles (use 2 colou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olour tiles to create 1 tile representation of the secret pattern you are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287D-D2A2-4F53-8092-1EA4186F30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uess my Rul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20B6-6C96-46D9-A7B8-CCC5C763E0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6002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29528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3526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29528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907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657600" y="20574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65760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81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65760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657600" y="32767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324480" y="20574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32448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6324480" y="17524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32448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324480" y="32767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4"/>
          <p:cNvSpPr/>
          <p:nvPr/>
        </p:nvSpPr>
        <p:spPr>
          <a:xfrm>
            <a:off x="12193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6"/>
          <p:cNvSpPr/>
          <p:nvPr/>
        </p:nvSpPr>
        <p:spPr>
          <a:xfrm>
            <a:off x="3581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7"/>
          <p:cNvSpPr/>
          <p:nvPr/>
        </p:nvSpPr>
        <p:spPr>
          <a:xfrm>
            <a:off x="6248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8"/>
          <p:cNvSpPr/>
          <p:nvPr/>
        </p:nvSpPr>
        <p:spPr>
          <a:xfrm>
            <a:off x="914400" y="4800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tiles = (position number) x          +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2388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9343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6294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4100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7150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0199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2670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625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29528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32448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65760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38088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324480" y="35812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ake your Patterns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1090-E211-47BA-A4F0-32019D5555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2666880" y="1676520"/>
            <a:ext cx="358956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, walk around and determine the secret rules of the different representations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the pattern rules on your hand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0BAF-763E-4D07-A060-8F593F3B98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patterns did you have a hard time figuring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2 colours help you see the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visual representation allow you to determine the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feedback about this activ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E91B-187E-4C3B-A873-5EB687F485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he following 2 Big Ideas in P&amp;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re these big ideas brought out in this a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D6B4-A199-4D95-B921-1FDB888ADE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Erik Teather</cp:lastModifiedBy>
  <dcterms:modified xsi:type="dcterms:W3CDTF">2011-07-31T01:33:31Z</dcterms:modified>
  <cp:revision>64</cp:revision>
  <dc:subject/>
  <dc:title>&lt;Title&gt;</dc:title>
</cp:coreProperties>
</file>